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laser.wav" ContentType="audio/x-wav"/>
  <Override PartName="/ppt/media/image27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9.wmf" ContentType="image/x-wmf"/>
  <Override PartName="/ppt/media/image26.png" ContentType="image/png"/>
  <Override PartName="/ppt/media/image17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  <Override PartName="/ppt/comments/comment1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<Relationship Id="rId32" Type="http://schemas.openxmlformats.org/officeDocument/2006/relationships/commentAuthors" Target="commentAuthors.xml"/>
</Relationships>
</file>

<file path=ppt/comments/comment15.xml><?xml version="1.0" encoding="utf-8"?>
<p:cmLst xmlns:p="http://schemas.openxmlformats.org/presentationml/2006/main">
  <p:cm authorId="0" dt="2016-08-19T19:21:53.888000000" idx="1">
    <p:pos x="621" y="4112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301F-8D76-471D-99F9-59E00818AC4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E610-36EC-4DE8-83DA-866C04630CA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jpe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 探索乐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4203720" y="3357720"/>
            <a:ext cx="332100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995640" y="2421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探 索 乐 园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32080" y="2959200"/>
            <a:ext cx="3311280" cy="17971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9800" y="1700280"/>
            <a:ext cx="40370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正三角形的平面密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28"/>
          <p:cNvSpPr/>
          <p:nvPr/>
        </p:nvSpPr>
        <p:spPr>
          <a:xfrm>
            <a:off x="6421320" y="39038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29"/>
          <p:cNvSpPr/>
          <p:nvPr/>
        </p:nvSpPr>
        <p:spPr>
          <a:xfrm flipV="1">
            <a:off x="6421320" y="306504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Line 30"/>
          <p:cNvSpPr/>
          <p:nvPr/>
        </p:nvSpPr>
        <p:spPr>
          <a:xfrm flipH="1" flipV="1">
            <a:off x="5964120" y="298944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Line 31"/>
          <p:cNvSpPr/>
          <p:nvPr/>
        </p:nvSpPr>
        <p:spPr>
          <a:xfrm flipH="1">
            <a:off x="5506920" y="39038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32"/>
          <p:cNvSpPr/>
          <p:nvPr/>
        </p:nvSpPr>
        <p:spPr>
          <a:xfrm flipH="1">
            <a:off x="5887800" y="3903840"/>
            <a:ext cx="5331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33"/>
          <p:cNvSpPr/>
          <p:nvPr/>
        </p:nvSpPr>
        <p:spPr>
          <a:xfrm>
            <a:off x="6421320" y="390384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rc 34"/>
          <p:cNvSpPr/>
          <p:nvPr/>
        </p:nvSpPr>
        <p:spPr>
          <a:xfrm flipV="1" rot="970200">
            <a:off x="6116760" y="3598200"/>
            <a:ext cx="609480" cy="609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43144" y="23150"/>
                </a:moveTo>
                <a:cubicBezTo>
                  <a:pt x="42331" y="34448"/>
                  <a:pt x="32927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43200">
                <a:moveTo>
                  <a:pt x="43144" y="23150"/>
                </a:moveTo>
                <a:cubicBezTo>
                  <a:pt x="42331" y="34448"/>
                  <a:pt x="32927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43144" y="2315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35"/>
          <p:cNvSpPr/>
          <p:nvPr/>
        </p:nvSpPr>
        <p:spPr>
          <a:xfrm>
            <a:off x="6711480" y="344664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Tahoma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36"/>
          <p:cNvSpPr/>
          <p:nvPr/>
        </p:nvSpPr>
        <p:spPr>
          <a:xfrm>
            <a:off x="6276600" y="314172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Tahoma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37"/>
          <p:cNvSpPr/>
          <p:nvPr/>
        </p:nvSpPr>
        <p:spPr>
          <a:xfrm>
            <a:off x="5743080" y="344664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Tahoma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38"/>
          <p:cNvSpPr/>
          <p:nvPr/>
        </p:nvSpPr>
        <p:spPr>
          <a:xfrm>
            <a:off x="5721120" y="390384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Tahoma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9"/>
          <p:cNvSpPr/>
          <p:nvPr/>
        </p:nvSpPr>
        <p:spPr>
          <a:xfrm>
            <a:off x="6178320" y="420840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Tahoma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40"/>
          <p:cNvSpPr/>
          <p:nvPr/>
        </p:nvSpPr>
        <p:spPr>
          <a:xfrm>
            <a:off x="6711480" y="405612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Tahoma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Line 41"/>
          <p:cNvSpPr/>
          <p:nvPr/>
        </p:nvSpPr>
        <p:spPr>
          <a:xfrm flipH="1">
            <a:off x="6269760" y="3592800"/>
            <a:ext cx="74880" cy="1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120" bIns="-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ine 42"/>
          <p:cNvSpPr/>
          <p:nvPr/>
        </p:nvSpPr>
        <p:spPr>
          <a:xfrm>
            <a:off x="6116760" y="382752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Line 43"/>
          <p:cNvSpPr/>
          <p:nvPr/>
        </p:nvSpPr>
        <p:spPr>
          <a:xfrm flipV="1">
            <a:off x="6721200" y="3903840"/>
            <a:ext cx="11520" cy="7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Line 44"/>
          <p:cNvSpPr/>
          <p:nvPr/>
        </p:nvSpPr>
        <p:spPr>
          <a:xfrm flipV="1">
            <a:off x="6497640" y="413208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Line 45"/>
          <p:cNvSpPr/>
          <p:nvPr/>
        </p:nvSpPr>
        <p:spPr>
          <a:xfrm>
            <a:off x="6204240" y="4105800"/>
            <a:ext cx="53280" cy="5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ine 46"/>
          <p:cNvSpPr/>
          <p:nvPr/>
        </p:nvSpPr>
        <p:spPr>
          <a:xfrm flipH="1" flipV="1">
            <a:off x="6584040" y="3649680"/>
            <a:ext cx="55440" cy="5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Group 47"/>
          <p:cNvGrpSpPr/>
          <p:nvPr/>
        </p:nvGrpSpPr>
        <p:grpSpPr>
          <a:xfrm>
            <a:off x="3087360" y="3141360"/>
            <a:ext cx="1495800" cy="1433880"/>
            <a:chOff x="3087360" y="3141360"/>
            <a:chExt cx="1495800" cy="1433880"/>
          </a:xfrm>
        </p:grpSpPr>
        <p:grpSp>
          <p:nvGrpSpPr>
            <p:cNvPr id="168" name="Group 48"/>
            <p:cNvGrpSpPr/>
            <p:nvPr/>
          </p:nvGrpSpPr>
          <p:grpSpPr>
            <a:xfrm>
              <a:off x="3087360" y="3141360"/>
              <a:ext cx="1495800" cy="1433880"/>
              <a:chOff x="3087360" y="3141360"/>
              <a:chExt cx="1495800" cy="1433880"/>
            </a:xfrm>
          </p:grpSpPr>
          <p:sp>
            <p:nvSpPr>
              <p:cNvPr id="169" name="Line 49"/>
              <p:cNvSpPr/>
              <p:nvPr/>
            </p:nvSpPr>
            <p:spPr>
              <a:xfrm>
                <a:off x="3835440" y="3858480"/>
                <a:ext cx="7477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Line 50"/>
              <p:cNvSpPr/>
              <p:nvPr/>
            </p:nvSpPr>
            <p:spPr>
              <a:xfrm flipV="1">
                <a:off x="3835440" y="3141360"/>
                <a:ext cx="373680" cy="7167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Line 51"/>
              <p:cNvSpPr/>
              <p:nvPr/>
            </p:nvSpPr>
            <p:spPr>
              <a:xfrm flipH="1" flipV="1">
                <a:off x="3461400" y="3141360"/>
                <a:ext cx="373680" cy="7167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Line 52"/>
              <p:cNvSpPr/>
              <p:nvPr/>
            </p:nvSpPr>
            <p:spPr>
              <a:xfrm flipH="1">
                <a:off x="3461400" y="3858480"/>
                <a:ext cx="373680" cy="7167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Line 53"/>
              <p:cNvSpPr/>
              <p:nvPr/>
            </p:nvSpPr>
            <p:spPr>
              <a:xfrm>
                <a:off x="3835440" y="3858480"/>
                <a:ext cx="373680" cy="7167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Line 54"/>
              <p:cNvSpPr/>
              <p:nvPr/>
            </p:nvSpPr>
            <p:spPr>
              <a:xfrm flipH="1">
                <a:off x="3087360" y="3858480"/>
                <a:ext cx="7477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5" name="Oval 55"/>
            <p:cNvSpPr/>
            <p:nvPr/>
          </p:nvSpPr>
          <p:spPr>
            <a:xfrm>
              <a:off x="3772800" y="3798720"/>
              <a:ext cx="124560" cy="1195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Oval 56"/>
          <p:cNvSpPr/>
          <p:nvPr/>
        </p:nvSpPr>
        <p:spPr>
          <a:xfrm>
            <a:off x="6345360" y="38275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178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同侧圆角矩形 59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同侧圆角矩形 60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3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4084560" y="2611440"/>
            <a:ext cx="3944880" cy="26607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87280" y="1773000"/>
            <a:ext cx="455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66"/>
                </a:solidFill>
                <a:latin typeface="华文新魏"/>
                <a:ea typeface="华文新魏"/>
              </a:rPr>
              <a:t>正六边形的平面密铺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3"/>
          <p:cNvSpPr/>
          <p:nvPr/>
        </p:nvSpPr>
        <p:spPr>
          <a:xfrm rot="1748400">
            <a:off x="2042640" y="31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20 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4"/>
          <p:cNvSpPr/>
          <p:nvPr/>
        </p:nvSpPr>
        <p:spPr>
          <a:xfrm rot="16776600">
            <a:off x="816480" y="3360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20 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1119240" y="2438280"/>
            <a:ext cx="2209680" cy="2590920"/>
            <a:chOff x="1119240" y="2438280"/>
            <a:chExt cx="2209680" cy="2590920"/>
          </a:xfrm>
        </p:grpSpPr>
        <p:sp>
          <p:nvSpPr>
            <p:cNvPr id="186" name="未知"/>
            <p:cNvSpPr/>
            <p:nvPr/>
          </p:nvSpPr>
          <p:spPr>
            <a:xfrm rot="21344400">
              <a:off x="1576080" y="4114440"/>
              <a:ext cx="87480" cy="298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5" y="0"/>
                  </a:moveTo>
                  <a:lnTo>
                    <a:pt x="0" y="1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7" name="Group 7"/>
            <p:cNvGrpSpPr/>
            <p:nvPr/>
          </p:nvGrpSpPr>
          <p:grpSpPr>
            <a:xfrm>
              <a:off x="1119240" y="2438280"/>
              <a:ext cx="2209680" cy="2590920"/>
              <a:chOff x="1119240" y="2438280"/>
              <a:chExt cx="2209680" cy="2590920"/>
            </a:xfrm>
          </p:grpSpPr>
          <p:sp>
            <p:nvSpPr>
              <p:cNvPr id="188" name="未知"/>
              <p:cNvSpPr/>
              <p:nvPr/>
            </p:nvSpPr>
            <p:spPr>
              <a:xfrm rot="7474800">
                <a:off x="1766520" y="3295440"/>
                <a:ext cx="87120" cy="29880"/>
              </a:xfrm>
              <a:custGeom>
                <a:avLst/>
                <a:gdLst/>
                <a:ahLst/>
                <a:rect l="l" t="t" r="r" b="b"/>
                <a:pathLst>
                  <a:path w="55" h="19">
                    <a:moveTo>
                      <a:pt x="55" y="0"/>
                    </a:moveTo>
                    <a:lnTo>
                      <a:pt x="0" y="1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89" name="Group 9"/>
              <p:cNvGrpSpPr/>
              <p:nvPr/>
            </p:nvGrpSpPr>
            <p:grpSpPr>
              <a:xfrm>
                <a:off x="1119240" y="2438280"/>
                <a:ext cx="2209680" cy="2590920"/>
                <a:chOff x="1119240" y="2438280"/>
                <a:chExt cx="2209680" cy="2590920"/>
              </a:xfrm>
            </p:grpSpPr>
            <p:sp>
              <p:nvSpPr>
                <p:cNvPr id="190" name="Line 10"/>
                <p:cNvSpPr/>
                <p:nvPr/>
              </p:nvSpPr>
              <p:spPr>
                <a:xfrm>
                  <a:off x="1957320" y="380988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" name="Line 11"/>
                <p:cNvSpPr/>
                <p:nvPr/>
              </p:nvSpPr>
              <p:spPr>
                <a:xfrm flipH="1" flipV="1">
                  <a:off x="1195560" y="2438280"/>
                  <a:ext cx="761760" cy="137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" name="Line 12"/>
                <p:cNvSpPr/>
                <p:nvPr/>
              </p:nvSpPr>
              <p:spPr>
                <a:xfrm flipH="1">
                  <a:off x="1119240" y="3809880"/>
                  <a:ext cx="838080" cy="121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Arc 13"/>
                <p:cNvSpPr/>
                <p:nvPr/>
              </p:nvSpPr>
              <p:spPr>
                <a:xfrm>
                  <a:off x="1805040" y="3352680"/>
                  <a:ext cx="533520" cy="485640"/>
                </a:xfrm>
                <a:custGeom>
                  <a:avLst/>
                  <a:gdLst/>
                  <a:ahLst/>
                  <a:rect l="l" t="t" r="r" b="b"/>
                  <a:pathLst>
                    <a:path fill="none" w="27727" h="26468">
                      <a:moveTo>
                        <a:pt x="0" y="887"/>
                      </a:moveTo>
                      <a:cubicBezTo>
                        <a:pt x="1989" y="298"/>
                        <a:pt x="4052" y="-1"/>
                        <a:pt x="6127" y="0"/>
                      </a:cubicBezTo>
                      <a:cubicBezTo>
                        <a:pt x="18056" y="0"/>
                        <a:pt x="27727" y="9670"/>
                        <a:pt x="27727" y="21600"/>
                      </a:cubicBezTo>
                      <a:cubicBezTo>
                        <a:pt x="27727" y="23238"/>
                        <a:pt x="27540" y="24871"/>
                        <a:pt x="27171" y="26468"/>
                      </a:cubicBezTo>
                    </a:path>
                    <a:path stroke="0" w="27727" h="26468">
                      <a:moveTo>
                        <a:pt x="0" y="887"/>
                      </a:moveTo>
                      <a:cubicBezTo>
                        <a:pt x="1989" y="298"/>
                        <a:pt x="4052" y="-1"/>
                        <a:pt x="6127" y="0"/>
                      </a:cubicBezTo>
                      <a:cubicBezTo>
                        <a:pt x="18056" y="0"/>
                        <a:pt x="27727" y="9670"/>
                        <a:pt x="27727" y="21600"/>
                      </a:cubicBezTo>
                      <a:cubicBezTo>
                        <a:pt x="27727" y="23238"/>
                        <a:pt x="27540" y="24871"/>
                        <a:pt x="27171" y="26468"/>
                      </a:cubicBezTo>
                      <a:lnTo>
                        <a:pt x="6127" y="21600"/>
                      </a:lnTo>
                      <a:lnTo>
                        <a:pt x="0" y="887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" name="Arc 14"/>
                <p:cNvSpPr/>
                <p:nvPr/>
              </p:nvSpPr>
              <p:spPr>
                <a:xfrm rot="14171400">
                  <a:off x="1427040" y="3484080"/>
                  <a:ext cx="519120" cy="500040"/>
                </a:xfrm>
                <a:custGeom>
                  <a:avLst/>
                  <a:gdLst/>
                  <a:ahLst/>
                  <a:rect l="l" t="t" r="r" b="b"/>
                  <a:pathLst>
                    <a:path fill="none" w="23521" h="23783">
                      <a:moveTo>
                        <a:pt x="-1" y="85"/>
                      </a:moveTo>
                      <a:cubicBezTo>
                        <a:pt x="638" y="28"/>
                        <a:pt x="1279" y="-1"/>
                        <a:pt x="1921" y="0"/>
                      </a:cubicBezTo>
                      <a:cubicBezTo>
                        <a:pt x="13850" y="0"/>
                        <a:pt x="23521" y="9670"/>
                        <a:pt x="23521" y="21600"/>
                      </a:cubicBezTo>
                      <a:cubicBezTo>
                        <a:pt x="23521" y="22329"/>
                        <a:pt x="23484" y="23057"/>
                        <a:pt x="23410" y="23783"/>
                      </a:cubicBezTo>
                    </a:path>
                    <a:path stroke="0" w="23521" h="23783">
                      <a:moveTo>
                        <a:pt x="-1" y="85"/>
                      </a:moveTo>
                      <a:cubicBezTo>
                        <a:pt x="638" y="28"/>
                        <a:pt x="1279" y="-1"/>
                        <a:pt x="1921" y="0"/>
                      </a:cubicBezTo>
                      <a:cubicBezTo>
                        <a:pt x="13850" y="0"/>
                        <a:pt x="23521" y="9670"/>
                        <a:pt x="23521" y="21600"/>
                      </a:cubicBezTo>
                      <a:cubicBezTo>
                        <a:pt x="23521" y="22329"/>
                        <a:pt x="23484" y="23057"/>
                        <a:pt x="23410" y="23783"/>
                      </a:cubicBezTo>
                      <a:lnTo>
                        <a:pt x="1921" y="21600"/>
                      </a:lnTo>
                      <a:lnTo>
                        <a:pt x="-1" y="85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" name="Arc 15"/>
                <p:cNvSpPr/>
                <p:nvPr/>
              </p:nvSpPr>
              <p:spPr>
                <a:xfrm rot="6747600">
                  <a:off x="1721880" y="3730320"/>
                  <a:ext cx="549360" cy="533160"/>
                </a:xfrm>
                <a:custGeom>
                  <a:avLst/>
                  <a:gdLst/>
                  <a:ahLst/>
                  <a:rect l="l" t="t" r="r" b="b"/>
                  <a:pathLst>
                    <a:path fill="none" w="30255" h="31938">
                      <a:moveTo>
                        <a:pt x="-1" y="1809"/>
                      </a:moveTo>
                      <a:cubicBezTo>
                        <a:pt x="2729" y="616"/>
                        <a:pt x="5676" y="-1"/>
                        <a:pt x="8655" y="0"/>
                      </a:cubicBezTo>
                      <a:cubicBezTo>
                        <a:pt x="20584" y="0"/>
                        <a:pt x="30255" y="9670"/>
                        <a:pt x="30255" y="21600"/>
                      </a:cubicBezTo>
                      <a:cubicBezTo>
                        <a:pt x="30255" y="25211"/>
                        <a:pt x="29349" y="28766"/>
                        <a:pt x="27620" y="31937"/>
                      </a:cubicBezTo>
                    </a:path>
                    <a:path stroke="0" w="30255" h="31938">
                      <a:moveTo>
                        <a:pt x="-1" y="1809"/>
                      </a:moveTo>
                      <a:cubicBezTo>
                        <a:pt x="2729" y="616"/>
                        <a:pt x="5676" y="-1"/>
                        <a:pt x="8655" y="0"/>
                      </a:cubicBezTo>
                      <a:cubicBezTo>
                        <a:pt x="20584" y="0"/>
                        <a:pt x="30255" y="9670"/>
                        <a:pt x="30255" y="21600"/>
                      </a:cubicBezTo>
                      <a:cubicBezTo>
                        <a:pt x="30255" y="25211"/>
                        <a:pt x="29349" y="28766"/>
                        <a:pt x="27620" y="31937"/>
                      </a:cubicBezTo>
                      <a:lnTo>
                        <a:pt x="8655" y="21600"/>
                      </a:lnTo>
                      <a:lnTo>
                        <a:pt x="-1" y="180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" name="未知"/>
                <p:cNvSpPr/>
                <p:nvPr/>
              </p:nvSpPr>
              <p:spPr>
                <a:xfrm flipV="1" rot="11549400">
                  <a:off x="2309040" y="3837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0"/>
                      </a:moveTo>
                      <a:lnTo>
                        <a:pt x="0" y="1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97" name="Text Box 17"/>
          <p:cNvSpPr/>
          <p:nvPr/>
        </p:nvSpPr>
        <p:spPr>
          <a:xfrm rot="8917800">
            <a:off x="1651680" y="427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20 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Group 35"/>
          <p:cNvGrpSpPr/>
          <p:nvPr/>
        </p:nvGrpSpPr>
        <p:grpSpPr>
          <a:xfrm>
            <a:off x="4811400" y="3898800"/>
            <a:ext cx="762480" cy="838080"/>
            <a:chOff x="4811400" y="3898800"/>
            <a:chExt cx="762480" cy="838080"/>
          </a:xfrm>
        </p:grpSpPr>
        <p:grpSp>
          <p:nvGrpSpPr>
            <p:cNvPr id="199" name="Group 36"/>
            <p:cNvGrpSpPr/>
            <p:nvPr/>
          </p:nvGrpSpPr>
          <p:grpSpPr>
            <a:xfrm>
              <a:off x="4811400" y="3898800"/>
              <a:ext cx="762480" cy="838080"/>
              <a:chOff x="4811400" y="3898800"/>
              <a:chExt cx="762480" cy="838080"/>
            </a:xfrm>
          </p:grpSpPr>
          <p:sp>
            <p:nvSpPr>
              <p:cNvPr id="200" name="Line 37"/>
              <p:cNvSpPr/>
              <p:nvPr/>
            </p:nvSpPr>
            <p:spPr>
              <a:xfrm>
                <a:off x="5040360" y="4356000"/>
                <a:ext cx="53352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Line 38"/>
              <p:cNvSpPr/>
              <p:nvPr/>
            </p:nvSpPr>
            <p:spPr>
              <a:xfrm flipH="1" flipV="1">
                <a:off x="4811400" y="3898800"/>
                <a:ext cx="228600" cy="4572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Line 39"/>
              <p:cNvSpPr/>
              <p:nvPr/>
            </p:nvSpPr>
            <p:spPr>
              <a:xfrm flipH="1">
                <a:off x="4811400" y="4356000"/>
                <a:ext cx="228600" cy="3808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3" name="Oval 40"/>
            <p:cNvSpPr/>
            <p:nvPr/>
          </p:nvSpPr>
          <p:spPr>
            <a:xfrm>
              <a:off x="4964040" y="4279680"/>
              <a:ext cx="15264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4" name="Oval 41"/>
          <p:cNvSpPr/>
          <p:nvPr/>
        </p:nvSpPr>
        <p:spPr>
          <a:xfrm>
            <a:off x="1881360" y="37339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206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同侧圆角矩形 44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同侧圆角矩形 45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99"/>
                                </p:to>
                              </p:animCl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3" dur="1" fill="hold"/>
                                  <p:tgtEl>
                                    <p:spTgt spid="1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WordArt 2" descr=""/>
          <p:cNvPicPr/>
          <p:nvPr/>
        </p:nvPicPr>
        <p:blipFill>
          <a:blip r:embed="rId1"/>
          <a:stretch/>
        </p:blipFill>
        <p:spPr>
          <a:xfrm>
            <a:off x="3492360" y="920880"/>
            <a:ext cx="1555920" cy="10666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1171440" y="234936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一种正多边形可以密铺的条件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533600" y="3500280"/>
            <a:ext cx="5676840" cy="642600"/>
          </a:xfrm>
          <a:prstGeom prst="rect">
            <a:avLst/>
          </a:prstGeom>
          <a:solidFill>
            <a:srgbClr val="4f81bd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每个内角都能被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60</a:t>
            </a:r>
            <a:r>
              <a:rPr b="0" lang="zh-CN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o 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整除。</a:t>
            </a:r>
            <a:r>
              <a:rPr b="0" lang="zh-CN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6" descr="2005jlbkazdt"/>
          <p:cNvPicPr/>
          <p:nvPr/>
        </p:nvPicPr>
        <p:blipFill>
          <a:blip r:embed="rId2">
            <a:lum bright="-46000"/>
          </a:blip>
          <a:stretch/>
        </p:blipFill>
        <p:spPr>
          <a:xfrm>
            <a:off x="7315200" y="5029200"/>
            <a:ext cx="533520" cy="515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2005jlbkazdt"/>
          <p:cNvPicPr/>
          <p:nvPr/>
        </p:nvPicPr>
        <p:blipFill>
          <a:blip r:embed="rId3">
            <a:lum bright="-4000"/>
          </a:blip>
          <a:stretch/>
        </p:blipFill>
        <p:spPr>
          <a:xfrm>
            <a:off x="7620120" y="5638680"/>
            <a:ext cx="685800" cy="663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2005jlbkazdt"/>
          <p:cNvPicPr/>
          <p:nvPr/>
        </p:nvPicPr>
        <p:blipFill>
          <a:blip r:embed="rId4">
            <a:lum bright="-4000"/>
          </a:blip>
          <a:stretch/>
        </p:blipFill>
        <p:spPr>
          <a:xfrm>
            <a:off x="6172200" y="5486400"/>
            <a:ext cx="685800" cy="663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2005jlbkazdt"/>
          <p:cNvPicPr/>
          <p:nvPr/>
        </p:nvPicPr>
        <p:blipFill>
          <a:blip r:embed="rId5">
            <a:lum bright="-4000"/>
          </a:blip>
          <a:stretch/>
        </p:blipFill>
        <p:spPr>
          <a:xfrm>
            <a:off x="8001000" y="4495680"/>
            <a:ext cx="685800" cy="663840"/>
          </a:xfrm>
          <a:prstGeom prst="rect">
            <a:avLst/>
          </a:prstGeom>
          <a:ln w="0">
            <a:noFill/>
          </a:ln>
        </p:spPr>
      </p:pic>
      <p:grpSp>
        <p:nvGrpSpPr>
          <p:cNvPr id="216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217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同侧圆角矩形 11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9" name="同侧圆角矩形 12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2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24" name="矩形 1"/>
          <p:cNvSpPr/>
          <p:nvPr/>
        </p:nvSpPr>
        <p:spPr>
          <a:xfrm>
            <a:off x="1187280" y="2644920"/>
            <a:ext cx="719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年级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同学去划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可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的和可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的两种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。如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同学恰好分配在这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船上而没有剩余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那么大船和小船各需要多少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27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对象 32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1"/>
          <p:cNvSpPr/>
          <p:nvPr/>
        </p:nvSpPr>
        <p:spPr>
          <a:xfrm>
            <a:off x="1116000" y="2649600"/>
            <a:ext cx="6985080" cy="180036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假设全是大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那么应该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而实际只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多算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因为我们把小船看成大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条船多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需要小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那么大船就需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3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0"/>
          <p:cNvSpPr/>
          <p:nvPr/>
        </p:nvSpPr>
        <p:spPr>
          <a:xfrm>
            <a:off x="1908000" y="2852640"/>
            <a:ext cx="5883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假设全是大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i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i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14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i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10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船需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船需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0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4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378080" y="26557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妈妈把家里的小鸡和兔子放在一个笼子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笼子里一共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脚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头。算一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鸡和兔子各有几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1"/>
          <p:cNvSpPr/>
          <p:nvPr/>
        </p:nvSpPr>
        <p:spPr>
          <a:xfrm>
            <a:off x="2639880" y="112068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7.18.19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三页的内容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.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.15.1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重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46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对象 32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21"/>
          <p:cNvSpPr/>
          <p:nvPr/>
        </p:nvSpPr>
        <p:spPr>
          <a:xfrm>
            <a:off x="1203480" y="2658960"/>
            <a:ext cx="6984720" cy="186120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解决的问题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有两个未知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设其中标准量为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另一个未知量用带有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式子表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然后根据题中的数量关系列出方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此题中可以设小鸡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则兔子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1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可以设兔子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则小鸡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1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5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1739880" y="2657520"/>
            <a:ext cx="5621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兔子有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鸡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1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2(11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=10</a:t>
            </a:r>
            <a:r>
              <a:rPr b="0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鸡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兔子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629400" y="811080"/>
            <a:ext cx="2114640" cy="203364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262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1"/>
          <p:cNvSpPr/>
          <p:nvPr/>
        </p:nvSpPr>
        <p:spPr>
          <a:xfrm rot="18297600">
            <a:off x="6242040" y="4149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10"/>
          <p:cNvSpPr/>
          <p:nvPr/>
        </p:nvSpPr>
        <p:spPr>
          <a:xfrm>
            <a:off x="1727280" y="1828800"/>
            <a:ext cx="513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鸡兔同笼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头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鸡和兔各有多少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2"/>
          <p:cNvSpPr/>
          <p:nvPr/>
        </p:nvSpPr>
        <p:spPr>
          <a:xfrm>
            <a:off x="2468520" y="306864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兔有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+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x=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x=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鸡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兔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。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839880" y="299880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尝试拼图并了解图形密铺。发现并了解长方形、正方形、等边三角形、正六边形等图形能够密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828720" y="17762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了解鸡兔同笼问题的结构特点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尝试用不同的策略解决鸡兔同笼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860400" y="4753080"/>
            <a:ext cx="64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悟化繁为简、转化等数学思想和方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矩形 10"/>
          <p:cNvSpPr/>
          <p:nvPr/>
        </p:nvSpPr>
        <p:spPr>
          <a:xfrm>
            <a:off x="755640" y="18097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274" name="矩形 19"/>
          <p:cNvSpPr/>
          <p:nvPr/>
        </p:nvSpPr>
        <p:spPr>
          <a:xfrm>
            <a:off x="1035000" y="2852640"/>
            <a:ext cx="66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鸡的腿数没有找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没有理清题目中的数量关系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量关系是鸡的腿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兔的腿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腿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只鸡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鸡的腿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鸡的只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279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5"/>
          <p:cNvSpPr/>
          <p:nvPr/>
        </p:nvSpPr>
        <p:spPr>
          <a:xfrm rot="18297600">
            <a:off x="5848200" y="50036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20"/>
          <p:cNvSpPr/>
          <p:nvPr/>
        </p:nvSpPr>
        <p:spPr>
          <a:xfrm rot="18297600">
            <a:off x="5410080" y="27795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对象 21" descr=""/>
          <p:cNvPicPr/>
          <p:nvPr/>
        </p:nvPicPr>
        <p:blipFill>
          <a:blip r:embed="rId3"/>
          <a:stretch/>
        </p:blipFill>
        <p:spPr>
          <a:xfrm>
            <a:off x="140328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284" name="矩形 16"/>
          <p:cNvSpPr/>
          <p:nvPr/>
        </p:nvSpPr>
        <p:spPr>
          <a:xfrm>
            <a:off x="1865160" y="3956040"/>
            <a:ext cx="3754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解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设兔有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x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4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x+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(20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-x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=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	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x=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	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-x=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鸡有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只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兔有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只。　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1"/>
          <p:cNvSpPr/>
          <p:nvPr/>
        </p:nvSpPr>
        <p:spPr>
          <a:xfrm>
            <a:off x="1835280" y="18223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兔有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+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x=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x=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鸡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兔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。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1"/>
          <p:cNvSpPr/>
          <p:nvPr/>
        </p:nvSpPr>
        <p:spPr>
          <a:xfrm>
            <a:off x="2548800" y="35384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1519200" y="1700280"/>
            <a:ext cx="64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哪些图形可以密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的打√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同侧圆角矩形 9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JJS185.eps" descr="id:2147514048;FounderCES"/>
          <p:cNvPicPr/>
          <p:nvPr/>
        </p:nvPicPr>
        <p:blipFill>
          <a:blip r:embed="rId1"/>
          <a:srcRect l="51672" t="0" r="0" b="0"/>
          <a:stretch/>
        </p:blipFill>
        <p:spPr>
          <a:xfrm>
            <a:off x="2171880" y="4221000"/>
            <a:ext cx="3927240" cy="1095480"/>
          </a:xfrm>
          <a:prstGeom prst="rect">
            <a:avLst/>
          </a:prstGeom>
          <a:ln w="0">
            <a:noFill/>
          </a:ln>
        </p:spPr>
      </p:pic>
      <p:pic>
        <p:nvPicPr>
          <p:cNvPr id="292" name="JJS185.eps" descr="id:2147514048;FounderCES"/>
          <p:cNvPicPr/>
          <p:nvPr/>
        </p:nvPicPr>
        <p:blipFill>
          <a:blip r:embed="rId2"/>
          <a:srcRect l="0" t="0" r="48652" b="0"/>
          <a:stretch/>
        </p:blipFill>
        <p:spPr>
          <a:xfrm>
            <a:off x="2195640" y="2516040"/>
            <a:ext cx="4321080" cy="10972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1"/>
          <p:cNvSpPr/>
          <p:nvPr/>
        </p:nvSpPr>
        <p:spPr>
          <a:xfrm>
            <a:off x="5660280" y="36133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3790080" y="53006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4079160" y="35751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2540880" y="53164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1"/>
          <p:cNvSpPr/>
          <p:nvPr/>
        </p:nvSpPr>
        <p:spPr>
          <a:xfrm>
            <a:off x="977760" y="1557360"/>
            <a:ext cx="71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钱购买两种洗涤液。要正好花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有几种买法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各买多少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2085120" y="2739960"/>
            <a:ext cx="3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8139960" y="2816280"/>
            <a:ext cx="3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同侧圆角矩形 9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1619280" y="4508640"/>
            <a:ext cx="638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可以买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瓶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7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瓶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;5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瓶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5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瓶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;8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瓶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3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瓶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;11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瓶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1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瓶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8" descr="C:\Users\Administrator\AppData\Roaming\Tencent\Users\781547643\QQ\WinTemp\RichOle\S`9B3}6U3QE127DF7H5YOYG.png"/>
          <p:cNvPicPr/>
          <p:nvPr/>
        </p:nvPicPr>
        <p:blipFill>
          <a:blip r:embed="rId1"/>
          <a:stretch/>
        </p:blipFill>
        <p:spPr>
          <a:xfrm>
            <a:off x="2717640" y="2835360"/>
            <a:ext cx="3635640" cy="14763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15"/>
          <p:cNvSpPr/>
          <p:nvPr/>
        </p:nvSpPr>
        <p:spPr>
          <a:xfrm>
            <a:off x="1468440" y="1573200"/>
            <a:ext cx="61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买下面的两种洗衣液。可以有几种不同的买法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同侧圆角矩形 7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766880" y="4724280"/>
            <a:ext cx="62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      </a:t>
            </a: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元的买</a:t>
            </a: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瓶</a:t>
            </a: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,8</a:t>
            </a:r>
            <a:r>
              <a:rPr b="0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元的买</a:t>
            </a: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瓶</a:t>
            </a: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;12</a:t>
            </a:r>
            <a:r>
              <a:rPr b="0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元的买</a:t>
            </a: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瓶</a:t>
            </a: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,8</a:t>
            </a:r>
            <a:r>
              <a:rPr b="0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元的买</a:t>
            </a: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瓶</a:t>
            </a: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;12</a:t>
            </a:r>
            <a:r>
              <a:rPr b="0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元的买</a:t>
            </a: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瓶</a:t>
            </a: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,8</a:t>
            </a:r>
            <a:r>
              <a:rPr b="0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元的买</a:t>
            </a:r>
            <a:r>
              <a:rPr b="0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瓶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A84.EPS" descr="id:2147513758;FounderCES"/>
          <p:cNvPicPr/>
          <p:nvPr/>
        </p:nvPicPr>
        <p:blipFill>
          <a:blip r:embed="rId1"/>
          <a:stretch/>
        </p:blipFill>
        <p:spPr>
          <a:xfrm>
            <a:off x="2195640" y="2968560"/>
            <a:ext cx="500040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5"/>
          <p:cNvSpPr/>
          <p:nvPr/>
        </p:nvSpPr>
        <p:spPr>
          <a:xfrm>
            <a:off x="1131840" y="2700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硬币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枚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币值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角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。求这两种硬币各有多少枚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同侧圆角矩形 5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2716560" y="4184640"/>
            <a:ext cx="347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2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枚和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6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7"/>
          <p:cNvSpPr/>
          <p:nvPr/>
        </p:nvSpPr>
        <p:spPr>
          <a:xfrm>
            <a:off x="1468440" y="2616120"/>
            <a:ext cx="587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红的妈妈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共买大米和小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找回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知每千克大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千克小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各买大米、小米多少千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同侧圆角矩形 5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4085640" y="4724280"/>
            <a:ext cx="19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买大米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千克、小米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千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4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325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7" name="AutoShape 27"/>
          <p:cNvSpPr/>
          <p:nvPr/>
        </p:nvSpPr>
        <p:spPr>
          <a:xfrm>
            <a:off x="6053040" y="1281240"/>
            <a:ext cx="2627280" cy="1617480"/>
          </a:xfrm>
          <a:prstGeom prst="wedgeRoundRectCallout">
            <a:avLst>
              <a:gd name="adj1" fmla="val -73652"/>
              <a:gd name="adj2" fmla="val -20449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解决问题的关键是找等量关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8" name="Group 23"/>
          <p:cNvGrpSpPr/>
          <p:nvPr/>
        </p:nvGrpSpPr>
        <p:grpSpPr>
          <a:xfrm>
            <a:off x="3276720" y="1281240"/>
            <a:ext cx="2447280" cy="1871640"/>
            <a:chOff x="3276720" y="1281240"/>
            <a:chExt cx="2447280" cy="1871640"/>
          </a:xfrm>
        </p:grpSpPr>
        <p:pic>
          <p:nvPicPr>
            <p:cNvPr id="329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28124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41012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矩形 21"/>
          <p:cNvSpPr/>
          <p:nvPr/>
        </p:nvSpPr>
        <p:spPr>
          <a:xfrm>
            <a:off x="623880" y="3357720"/>
            <a:ext cx="7972560" cy="4748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决鸡兔同笼问题可以用列表法、方程法和假设法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矩形 15"/>
          <p:cNvSpPr/>
          <p:nvPr/>
        </p:nvSpPr>
        <p:spPr>
          <a:xfrm>
            <a:off x="657360" y="4365720"/>
            <a:ext cx="7939080" cy="520560"/>
          </a:xfrm>
          <a:prstGeom prst="rect">
            <a:avLst/>
          </a:prstGeom>
          <a:solidFill>
            <a:srgbClr val="31859c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在所有的正多边形中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只有正三角形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等边三角形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、正方形、正六边形可以密铺。形状、大小完全相同的任意四边形、梯形、平行四边形能密铺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圆、正五边形、正八边形不能密铺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1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116000" y="1422360"/>
            <a:ext cx="3311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鸡和兔各有多少只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954000" y="517680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1170000" y="539280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1386000" y="560880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同侧圆角矩形 11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3" descr="男孩1"/>
          <p:cNvPicPr/>
          <p:nvPr/>
        </p:nvPicPr>
        <p:blipFill>
          <a:blip r:embed="rId1"/>
          <a:stretch/>
        </p:blipFill>
        <p:spPr>
          <a:xfrm>
            <a:off x="6488280" y="505944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7"/>
          <p:cNvSpPr/>
          <p:nvPr/>
        </p:nvSpPr>
        <p:spPr>
          <a:xfrm>
            <a:off x="3316320" y="5254560"/>
            <a:ext cx="2851200" cy="952560"/>
          </a:xfrm>
          <a:prstGeom prst="wedgeRoundRectCallout">
            <a:avLst>
              <a:gd name="adj1" fmla="val 67462"/>
              <a:gd name="adj2" fmla="val -793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用什么方法解答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1665360" y="2171880"/>
            <a:ext cx="5448240" cy="3057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95360" y="3327480"/>
            <a:ext cx="8143920" cy="15811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1"/>
          <p:cNvSpPr/>
          <p:nvPr/>
        </p:nvSpPr>
        <p:spPr>
          <a:xfrm>
            <a:off x="7325640" y="38638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70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同侧圆角矩形 21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同侧圆角矩形 22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2" descr="女孩2"/>
          <p:cNvPicPr/>
          <p:nvPr/>
        </p:nvPicPr>
        <p:blipFill>
          <a:blip r:embed="rId2"/>
          <a:stretch/>
        </p:blipFill>
        <p:spPr>
          <a:xfrm>
            <a:off x="644400" y="1498680"/>
            <a:ext cx="1432080" cy="18000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27"/>
          <p:cNvSpPr/>
          <p:nvPr/>
        </p:nvSpPr>
        <p:spPr>
          <a:xfrm>
            <a:off x="2381400" y="1765440"/>
            <a:ext cx="1925640" cy="633240"/>
          </a:xfrm>
          <a:prstGeom prst="wedgeRoundRectCallout">
            <a:avLst>
              <a:gd name="adj1" fmla="val -61388"/>
              <a:gd name="adj2" fmla="val -2215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用列表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4565880" y="3340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5366880" y="3340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6014520" y="3340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6662160" y="3340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7310520" y="3340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8077320" y="33400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4536360" y="38847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5265000" y="38847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5913360" y="38847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6572880" y="38847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8073360" y="38847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4613040" y="43862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5295600" y="4384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5913000" y="4384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6603120" y="4384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7298280" y="4384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8100720" y="4384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3" descr="男孩1"/>
          <p:cNvPicPr/>
          <p:nvPr/>
        </p:nvPicPr>
        <p:blipFill>
          <a:blip r:embed="rId3"/>
          <a:stretch/>
        </p:blipFill>
        <p:spPr>
          <a:xfrm>
            <a:off x="6488280" y="505944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27"/>
          <p:cNvSpPr/>
          <p:nvPr/>
        </p:nvSpPr>
        <p:spPr>
          <a:xfrm>
            <a:off x="2987640" y="5254560"/>
            <a:ext cx="3179880" cy="476280"/>
          </a:xfrm>
          <a:prstGeom prst="wedgeRoundRectCallout">
            <a:avLst>
              <a:gd name="adj1" fmla="val 67462"/>
              <a:gd name="adj2" fmla="val -793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鸡有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9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只，兔有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3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95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同侧圆角矩形 21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同侧圆角矩形 22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组合 1"/>
          <p:cNvGrpSpPr/>
          <p:nvPr/>
        </p:nvGrpSpPr>
        <p:grpSpPr>
          <a:xfrm>
            <a:off x="855720" y="1433520"/>
            <a:ext cx="3093840" cy="1800360"/>
            <a:chOff x="855720" y="1433520"/>
            <a:chExt cx="3093840" cy="1800360"/>
          </a:xfrm>
        </p:grpSpPr>
        <p:sp>
          <p:nvSpPr>
            <p:cNvPr id="99" name="AutoShape 27"/>
            <p:cNvSpPr/>
            <p:nvPr/>
          </p:nvSpPr>
          <p:spPr>
            <a:xfrm>
              <a:off x="2025000" y="1521000"/>
              <a:ext cx="1924560" cy="468000"/>
            </a:xfrm>
            <a:prstGeom prst="wedgeRoundRectCallout">
              <a:avLst>
                <a:gd name="adj1" fmla="val -61388"/>
                <a:gd name="adj2" fmla="val -2215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我用方程法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" name="Picture 45" descr="女孩1"/>
            <p:cNvPicPr/>
            <p:nvPr/>
          </p:nvPicPr>
          <p:blipFill>
            <a:blip r:embed="rId1"/>
            <a:stretch/>
          </p:blipFill>
          <p:spPr>
            <a:xfrm>
              <a:off x="855720" y="1433520"/>
              <a:ext cx="115056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Text Box 7"/>
          <p:cNvSpPr/>
          <p:nvPr/>
        </p:nvSpPr>
        <p:spPr>
          <a:xfrm>
            <a:off x="2787480" y="2201400"/>
            <a:ext cx="3579840" cy="459720"/>
          </a:xfrm>
          <a:prstGeom prst="rect">
            <a:avLst/>
          </a:prstGeom>
          <a:solidFill>
            <a:srgbClr val="4f81bd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兔的腿数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鸡的腿数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741320" y="2759400"/>
            <a:ext cx="67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兔有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那么鸡就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2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兔的腿数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鸡的腿数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×(22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2276640" y="3671280"/>
            <a:ext cx="3958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2×(22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=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44-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鸡的只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22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鸡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兔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105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同侧圆角矩形 21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同侧圆角矩形 22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27"/>
          <p:cNvSpPr/>
          <p:nvPr/>
        </p:nvSpPr>
        <p:spPr>
          <a:xfrm>
            <a:off x="3718080" y="1382760"/>
            <a:ext cx="2384280" cy="633240"/>
          </a:xfrm>
          <a:prstGeom prst="wedgeRoundRectCallout">
            <a:avLst>
              <a:gd name="adj1" fmla="val 77620"/>
              <a:gd name="adj2" fmla="val -1764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用假设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1461960" y="2392200"/>
            <a:ext cx="601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假设这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都是鸡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那么腿的数量是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4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实际腿数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7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6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因为每只兔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腿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假设全是鸡时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只兔就被少算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腿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可算出兔的只数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6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3" descr="男孩1"/>
          <p:cNvPicPr/>
          <p:nvPr/>
        </p:nvPicPr>
        <p:blipFill>
          <a:blip r:embed="rId1"/>
          <a:stretch/>
        </p:blipFill>
        <p:spPr>
          <a:xfrm>
            <a:off x="6659640" y="80028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1461960" y="4798800"/>
            <a:ext cx="6064200" cy="901800"/>
          </a:xfrm>
          <a:prstGeom prst="rect">
            <a:avLst/>
          </a:prstGeom>
          <a:solidFill>
            <a:srgbClr val="4f81bd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兔的只数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:(70</a:t>
            </a:r>
            <a:r>
              <a:rPr b="0" i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2</a:t>
            </a:r>
            <a:r>
              <a:rPr b="0" i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)</a:t>
            </a:r>
            <a:r>
              <a:rPr b="0" i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÷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(4</a:t>
            </a:r>
            <a:r>
              <a:rPr b="0" i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)</a:t>
            </a:r>
            <a:r>
              <a:rPr b="0" i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3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只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0" i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鸡的只数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:22</a:t>
            </a:r>
            <a:r>
              <a:rPr b="0" i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3</a:t>
            </a:r>
            <a:r>
              <a:rPr b="0" i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9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只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113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同侧圆角矩形 21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同侧圆角矩形 22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3718080" y="1382760"/>
            <a:ext cx="2384280" cy="633240"/>
          </a:xfrm>
          <a:prstGeom prst="wedgeRoundRectCallout">
            <a:avLst>
              <a:gd name="adj1" fmla="val 77620"/>
              <a:gd name="adj2" fmla="val -1764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用假设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2687760" y="2392200"/>
            <a:ext cx="3612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假设这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都是兔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8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8-70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-9=1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只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3" descr="男孩1"/>
          <p:cNvPicPr/>
          <p:nvPr/>
        </p:nvPicPr>
        <p:blipFill>
          <a:blip r:embed="rId1"/>
          <a:stretch/>
        </p:blipFill>
        <p:spPr>
          <a:xfrm>
            <a:off x="6659640" y="800280"/>
            <a:ext cx="1616040" cy="1798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2" descr="女孩2"/>
          <p:cNvPicPr/>
          <p:nvPr/>
        </p:nvPicPr>
        <p:blipFill>
          <a:blip r:embed="rId2"/>
          <a:stretch/>
        </p:blipFill>
        <p:spPr>
          <a:xfrm>
            <a:off x="644400" y="4608360"/>
            <a:ext cx="1432080" cy="18003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27"/>
          <p:cNvSpPr/>
          <p:nvPr/>
        </p:nvSpPr>
        <p:spPr>
          <a:xfrm>
            <a:off x="2381400" y="4875120"/>
            <a:ext cx="3485880" cy="633600"/>
          </a:xfrm>
          <a:prstGeom prst="wedgeRoundRectCallout">
            <a:avLst>
              <a:gd name="adj1" fmla="val -61388"/>
              <a:gd name="adj2" fmla="val -2215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用假设法比较简便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"/>
          <p:cNvSpPr/>
          <p:nvPr/>
        </p:nvSpPr>
        <p:spPr>
          <a:xfrm>
            <a:off x="1630440" y="1576440"/>
            <a:ext cx="114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密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1025640" y="488808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1241280" y="510372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125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同侧圆角矩形 15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同侧圆角矩形 16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987480" y="4643280"/>
            <a:ext cx="7224480" cy="520560"/>
          </a:xfrm>
          <a:prstGeom prst="rect">
            <a:avLst/>
          </a:prstGeom>
          <a:solidFill>
            <a:srgbClr val="4f81bd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无论是什么形状的地砖，只要可以将一块地面的中间既不留空隙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重叠地铺满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就是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密铺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1" descr="C:\Users\Administrator\AppData\Roaming\Tencent\Users\781547643\QQ\WinTemp\RichOle\ZEX@3V{HXLSH1KE8}]0`7`N.png"/>
          <p:cNvPicPr/>
          <p:nvPr/>
        </p:nvPicPr>
        <p:blipFill>
          <a:blip r:embed="rId1"/>
          <a:stretch/>
        </p:blipFill>
        <p:spPr>
          <a:xfrm>
            <a:off x="2071800" y="2286000"/>
            <a:ext cx="50576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131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同侧圆角矩形 17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同侧圆角矩形 18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Group 44"/>
          <p:cNvGrpSpPr/>
          <p:nvPr/>
        </p:nvGrpSpPr>
        <p:grpSpPr>
          <a:xfrm>
            <a:off x="-95400" y="1352520"/>
            <a:ext cx="4336920" cy="1800360"/>
            <a:chOff x="-95400" y="1352520"/>
            <a:chExt cx="4336920" cy="1800360"/>
          </a:xfrm>
        </p:grpSpPr>
        <p:pic>
          <p:nvPicPr>
            <p:cNvPr id="135" name="Picture 45" descr="女孩1"/>
            <p:cNvPicPr/>
            <p:nvPr/>
          </p:nvPicPr>
          <p:blipFill>
            <a:blip r:embed="rId1"/>
            <a:stretch/>
          </p:blipFill>
          <p:spPr>
            <a:xfrm>
              <a:off x="-95400" y="1352520"/>
              <a:ext cx="11509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AutoShape 27"/>
            <p:cNvSpPr/>
            <p:nvPr/>
          </p:nvSpPr>
          <p:spPr>
            <a:xfrm>
              <a:off x="1091880" y="1482840"/>
              <a:ext cx="3149640" cy="646200"/>
            </a:xfrm>
            <a:prstGeom prst="wedgeRoundRectCallout">
              <a:avLst>
                <a:gd name="adj1" fmla="val -55861"/>
                <a:gd name="adj2" fmla="val -1805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  </a:t>
              </a:r>
              <a:r>
                <a:rPr b="0" lang="zh-CN" sz="24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用下面图形试一试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1731960" y="2320920"/>
            <a:ext cx="1400040" cy="1428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3"/>
          <a:stretch/>
        </p:blipFill>
        <p:spPr>
          <a:xfrm>
            <a:off x="4087800" y="2320920"/>
            <a:ext cx="1380960" cy="1428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4"/>
          <a:stretch/>
        </p:blipFill>
        <p:spPr>
          <a:xfrm>
            <a:off x="6688080" y="2163600"/>
            <a:ext cx="1295280" cy="1495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5"/>
          <a:stretch/>
        </p:blipFill>
        <p:spPr>
          <a:xfrm>
            <a:off x="684360" y="4473720"/>
            <a:ext cx="2000160" cy="1085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6"/>
          <a:stretch/>
        </p:blipFill>
        <p:spPr>
          <a:xfrm>
            <a:off x="3191040" y="4354560"/>
            <a:ext cx="2104920" cy="141912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4"/>
          <p:cNvGrpSpPr/>
          <p:nvPr/>
        </p:nvGrpSpPr>
        <p:grpSpPr>
          <a:xfrm>
            <a:off x="5541840" y="3714840"/>
            <a:ext cx="2742840" cy="2361240"/>
            <a:chOff x="5541840" y="3714840"/>
            <a:chExt cx="2742840" cy="2361240"/>
          </a:xfrm>
        </p:grpSpPr>
        <p:sp>
          <p:nvSpPr>
            <p:cNvPr id="143" name="AutoShape 5"/>
            <p:cNvSpPr/>
            <p:nvPr/>
          </p:nvSpPr>
          <p:spPr>
            <a:xfrm>
              <a:off x="6913440" y="4680720"/>
              <a:ext cx="1371240" cy="1395360"/>
            </a:xfrm>
            <a:prstGeom prst="octagon">
              <a:avLst>
                <a:gd name="adj" fmla="val 29287"/>
              </a:avLst>
            </a:prstGeom>
            <a:solidFill>
              <a:srgbClr val="66cc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AutoShape 6"/>
            <p:cNvSpPr/>
            <p:nvPr/>
          </p:nvSpPr>
          <p:spPr>
            <a:xfrm>
              <a:off x="5541840" y="4680720"/>
              <a:ext cx="1371600" cy="1395360"/>
            </a:xfrm>
            <a:prstGeom prst="octagon">
              <a:avLst>
                <a:gd name="adj" fmla="val 29287"/>
              </a:avLst>
            </a:prstGeom>
            <a:solidFill>
              <a:srgbClr val="0000ff">
                <a:alpha val="4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5963760" y="3714840"/>
              <a:ext cx="1371240" cy="1395360"/>
            </a:xfrm>
            <a:prstGeom prst="octagon">
              <a:avLst>
                <a:gd name="adj" fmla="val 29287"/>
              </a:avLst>
            </a:prstGeom>
            <a:solidFill>
              <a:srgbClr val="66ccff">
                <a:alpha val="5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31T02:53:15Z</dcterms:created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11:22:10Z</dcterms:modified>
  <cp:revision>342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